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312A-1C48-4CE0-AB36-70BC798D5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C042-E4C4-4BE9-A490-CA72E2BB6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D77B-8C7D-457D-A5E7-96FA7CB1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BF74-B8D0-406A-BADF-1E33F695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9D6D-EE8C-48FF-BEE0-516CFA63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80CF-B0CA-4ACA-9B66-B388CF74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4FD0-3AE5-4095-8922-1995F12B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C14B-6FEB-4E1B-9163-F9E20A2E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FB1D-3523-4357-994F-CA13E2E4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6B72-552F-4419-8754-51844E0D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D435-9970-43AA-8933-904B8423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A5DC-A7F5-4C74-AED7-2E38FB39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43CA-A1B2-4586-B0A1-5577B571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3C72-156C-4E9D-9821-2D7CAEE6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FB4F-ED12-4709-975E-AB5A0D69D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hahmina Ham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Rhahmina Ham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Rhahmina Ham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Rhahmina Hami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Rhahmina Ham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447920" y="1752480"/>
            <a:ext cx="563868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343434"/>
                </a:solidFill>
                <a:latin typeface="Arial"/>
              </a:rPr>
              <a:t>Buenos días mis amigas.  Que haces¿ Donde estas¿  Como e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0" y="45720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27000" y="54100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767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0" y="3429000"/>
            <a:ext cx="175248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llamo Rhahmina. Vivo en NY. Yo tengo catorce años.  Yo soy simpática, bonita y divertida. Yo tengo tres  hermanos, son fastidiosos.  Tenemos dos pájaros inteligente. Adiós amigas!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60480" y="4876920"/>
            <a:ext cx="568080" cy="1085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743040" y="4876920"/>
            <a:ext cx="542880" cy="780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4100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71176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950000"/>
            <a:ext cx="439560" cy="63324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257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Usted es simpática. Ustedes son mis amigas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0040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as, Rhahmina!  Te amo amigo.   Yo estoy en la ciudad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l tiene una fiesta mañana. ¿Tu quieres venir  a la fiesta? Nuestr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fiesta será divertida.  _x0016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, Rhahmina!  Espero el bus.  Estoy aburrid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us fiestas son locas. ¿Tu vas?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stamos en Queens con nuestras amigas. Ellos están sorprendidos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7150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2"/>
          <p:cNvSpPr/>
          <p:nvPr/>
        </p:nvSpPr>
        <p:spPr>
          <a:xfrm>
            <a:off x="790560" y="609588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7105680" y="4829040"/>
            <a:ext cx="18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4:56:10Z</dcterms:modified>
  <cp:revision>116</cp:revision>
  <dc:subject/>
  <dc:title>Profile</dc:title>
</cp:coreProperties>
</file>